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35C9-61F6-4C3F-97CA-CC43DE401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0030-BA47-48C3-A9D6-B179D9780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BF2B-A17C-4733-BEA4-7401C0BE3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2367-D290-4ED1-ADF3-1BFD70CF0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E2E44-DC74-4D89-A55D-D32AA70E6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66C25-19E3-42AA-9F1F-DD478CC8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0ABEF-0B40-48B7-89BC-97112C4EF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4D17F-BB93-4339-AF3E-42AC20BE9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5D0FB-EDE2-4AED-B700-C89566860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189DA-19A9-41E3-AA03-047A68AA7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01A6A-54D4-4B74-86F9-DA751B92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BA60-EF25-45C5-B160-D33872CD3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F42D0-93F3-406E-82D5-A6652F1C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94D84-04A8-46F3-BFBD-8D5D27BE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072AC-97DB-41AC-B83F-4221E82E5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9A488-45EE-4FCC-AA11-B36A87444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06AA7-3606-4DC2-A883-8A6941CA2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7050-24BF-4A63-9423-5FE676AF5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F288-1CBA-4F6E-A81B-1D2B1217A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EF2A-0819-47B7-980A-6659B5E76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9237-6BC5-4C3C-A3ED-31B3E4F5E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2CF5-582A-4FFC-A69A-94A21B16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6FED-8DA1-4170-868F-FD1DA990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36A4-16CD-4162-B984-482EB514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05723-95D8-4D35-9670-19CA889443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257800" y="914400"/>
            <a:ext cx="3200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FD2DA-0E2C-437D-B24E-D0887289E4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257800" y="914400"/>
            <a:ext cx="3200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hapter 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257800" y="2743200"/>
            <a:ext cx="3276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view of Databases and Transaction Proc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les in Design, Implementation and Maintenance of a TPS (con’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tabase Administrat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maintains database once system is operational: space allocation, performance optimization, database 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ystem Administrat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maintains transaction processing system: monitors interconnection of HW and SW modules, deals with failures and cong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3821-BB22-4516-B05C-31C71049A76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LTP  vs.  OL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-line Transaction Process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OLTP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y-to-day handling of transactions that result from enterprise oper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s correspondence between database state and enterprise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-line Analytic Process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OLAP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sis of information in a database for the purpose of making management deci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562B-8AED-4123-9934-507747068F9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L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yzes historical data (terabytes) using complex qu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e to volume of data and complexity of queries, OLAP often uses a data wareho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ta Warehouse 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offline) repository of historical data generated from OLTP or other 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ta Min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use of warehouse data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scov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lationships that might influence enterprise strate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ED6B-7F5C-467E-AC3C-BDE289E1EBC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 - Supermark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 is 3 cans of soup and 1 box of crackers bought; update database to reflect that ev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t winter in all stores in northeast, how many customers bought soup and crackers togeth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M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there any interesting combinations of foods that customers frequently bought togeth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8A01-4F07-4318-BA89-90E56915E08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Databas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ction of data central to some enterpr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sential to operation of enterpr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ins the only record of enterprise 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sset in its own r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rical data can guide enterprise strate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interest to other enterpri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of database mirrors state of enterpr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base is persis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5FDB-A000-4D0F-B025-55938F9C1F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Database Management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Database Management System (DBMS) is a program that manages a databa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s a high-level access language (e.g. SQL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 describes database accesses using that langu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BMS interprets statements of language to perform requested database acc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A3B2-65FF-438C-A90E-D067126CBE2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Transac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n event in the real world changes the state of the enterprise, a transaction is executed to cause the corresponding change in the database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an on-line database, the event causes the transaction to be executed in real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ransaction is an application program with special properties - discussed later - to guarantee it maintains database correc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82EF-20F1-4AF9-9384-967F544BA9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Transaction Processing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action execution is controlled by a TP mon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s the abstraction of a transaction, analogous to the way an operating system creates the abstraction of a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P monitor and DBMS together guarantee the special properties of trans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ransaction Processing System consists of TP monitor, databases, and 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2F39-725F-4B19-8456-1A9D36BFB6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 Processing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320" y="2362320"/>
            <a:ext cx="685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19320" y="3733920"/>
            <a:ext cx="685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5105520"/>
            <a:ext cx="65530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P  Mon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91120" y="3581280"/>
            <a:ext cx="19810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934320" y="2362320"/>
            <a:ext cx="6094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172200" y="2819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96080" y="403848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2438280"/>
            <a:ext cx="76320" cy="2286000"/>
          </a:xfrm>
          <a:custGeom>
            <a:avLst/>
            <a:gdLst>
              <a:gd name="textAreaLeft" fmla="*/ 48960 w 76320"/>
              <a:gd name="textAreaRight" fmla="*/ 76320 w 763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-285480" y="3330720"/>
            <a:ext cx="164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91120" y="2209680"/>
            <a:ext cx="19810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7220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34320" y="4419720"/>
            <a:ext cx="6094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934320" y="3886200"/>
            <a:ext cx="6094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934320" y="2971800"/>
            <a:ext cx="6094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34320" y="2514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543800" y="2438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34320" y="4038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43800" y="3962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80240" y="25560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27432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2971800"/>
            <a:ext cx="22860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05120" y="41911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587F-8F71-45CF-BD34-0140663882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stem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gh Availabil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on-line =&gt; must be operational while enterprise is func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gh Reliabil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correctly tracks state, does not lose data, controlled concur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gh Throughp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many users =&gt; many transactions/s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w Response Ti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on-line =&gt; users are wa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6BE1-F401-4060-8A4D-9F41260788A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stem Requirements (con’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ng Lifeti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complex systems are not easily repla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be designed so they can be easily extended as the needs of the enterprise 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sensitive information must be carefully protected since system  is accessible to many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entication, authorization, encry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0AB0-37E9-4FD4-A849-E46CC3563F9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les in Design, Implementation, and Maintenance of a T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ystem Analy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specifies system using input from customer; provides complete description of functionality from customer’s and user’s point of 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tabase Design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specifies structure of data that will be stored in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plication Programm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implements application programs (transactions) that access data and support enterprise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E6C1-E276-4CB8-99B2-558CF6D4234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80-01-04T09:54:02Z</dcterms:created>
  <dc:creator>ARTHUR  BERNSTEIN</dc:creator>
  <dc:description/>
  <dc:language>en-US</dc:language>
  <cp:lastModifiedBy>Pearson Education</cp:lastModifiedBy>
  <cp:lastPrinted>2000-08-23T15:30:00Z</cp:lastPrinted>
  <dcterms:modified xsi:type="dcterms:W3CDTF">2005-04-06T15:54:18Z</dcterms:modified>
  <cp:revision>51</cp:revision>
  <dc:subject/>
  <dc:title>Overview of Databases and Transaction Processing</dc:title>
</cp:coreProperties>
</file>