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3D7-FB8A-42E8-9EC9-5CF6E603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AE1-6F60-4985-8259-7762B8D6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B85-7EA8-440F-BEF2-0F764974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DB3-DEA8-47E5-B74B-D3FEBC25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A8B4-3629-4E81-A158-FE00E240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7C56-5813-4BB0-BFF7-715D2ECE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7E8-6D0C-437B-9205-E47440A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DC58-2904-4B46-8919-297C9878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787E-8898-4CC1-BDE0-B807F5EC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FCA1-16D5-4C29-80C7-999E1207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E12C-444E-43A1-A0F4-283B430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F35-C6C8-4BC1-8861-900FE66E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9D1A-027F-46E7-9623-1EC17E2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8BF6-40E7-4E01-B0DA-E98F7356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4C9B-04F4-4944-A7D1-176DD077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998-42CA-478F-ACCB-2706809E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CFB2-422A-43B6-8D60-1BE7A159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1ABD-0603-4687-BA05-AD1D3085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03E1-D62A-4A9F-8214-F6E048BF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8715-D70B-4FF1-9131-7D6109ED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3E60-09BD-40D8-B336-CCBF7B0C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A6AC-5A82-4151-9920-073EBA76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103-B12C-41D3-9D45-242C297A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FF11-EF42-4F9F-9EF8-16599F96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1DD6-4EE8-471D-8318-8956A80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3AB6-6109-4D8F-9298-D0D1F3F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51E7-4722-47AC-AD9D-AF8B404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6EECD-4D4A-4FAC-B181-E24630A0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2607-D8C8-4810-B375-98628237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DA92-06AE-4E1D-9C25-3303EC36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FF3-9D04-4DA5-841F-38EA5E6B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DFA-966F-4687-85E0-9D841684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7C3-5687-45B9-834E-4347166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FC3-206C-44D2-9803-6D24A6BD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C16-C49E-4AB2-BF3D-670E408F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0B8-1564-417F-ADA4-CE7B9234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2291-FF57-4CE4-BA2F-18747FA9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47DB-7D6D-4507-AC04-A60F9004F574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255680" y="1066680"/>
            <a:ext cx="5450040" cy="322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09624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B94A-751A-4735-B474-C23DC04E9B00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09624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ilding Distributed Software Systems with the Open Agent Architectur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99840" y="4343040"/>
            <a:ext cx="5861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L. Martin, Adam J. Cheyer, Douglas B. Moran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19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by Ian Strasci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/21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1932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pen Agent Architecture (OAA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OAA framework qualit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delegation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 competition and cooperation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AA System Structur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4678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AA System Structur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, black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collection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-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e facilitator during multi-agent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I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different input types to find best 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gent types are just concep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AA System Structur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133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905120"/>
            <a:ext cx="7010280" cy="1066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52578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5029200"/>
            <a:ext cx="2514600" cy="1066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191120" y="2971440"/>
            <a:ext cx="0" cy="2057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429000"/>
            <a:ext cx="2361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gist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2971800"/>
            <a:ext cx="0" cy="2057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3276720"/>
            <a:ext cx="2361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nd any requests to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352680"/>
            <a:ext cx="2819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ars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cess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turn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o Cooperat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ace Communication Language (I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, communication, and task coordination language of all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perform queries, execute actions, exchange inform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ties and communication centered around transmitting and handling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type, set of parameters, and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aa_Sol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request services from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CL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L has a conversational layer and a conten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ation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by event types &amp; associated event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s of specific goals, triggers, &amp; data elements that may be embedded in various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s an extension of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CL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else uses ICL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bilities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est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s to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gger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data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ing Servic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define and publish the services they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level interface to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bilities declaration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l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 of solv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l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l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ing Servic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ables invoked the sam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requests arrive as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must be expressed in I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be success/failure or list of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 can add, remove, or modify solvables after connecting to facili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ributed Compu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computing becoming more prevalen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rarely keep all their data on one machin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machines – new/additional rol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data storage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ing service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rogramming models become necessary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fying Solvabl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represent a solvabl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parts: goal, list of parameters, list of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lvable(Goal, ListOfParameters, ListOfPermi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 – a functor with 0 or more ar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meters – refine semantics of sol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rameter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ata, procedure, 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ssions – service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lling,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lvable(send_message(email, To, Params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[type(procedure), callback(send_mail) ], [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fying Solvabl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hard restriction on form of solvable is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“good OAA interface sty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es of items often tagged by a particular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ons – imperative verb, direct object as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gument of predicate, then other required args, then extensible parameter list (may hold adjective, prepositional phras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bject(fiftydollars, ian, [when(weekdays)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8769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erative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525780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334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rec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502920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ositional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5960" y="4643280"/>
            <a:ext cx="228600" cy="301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4689360"/>
            <a:ext cx="14400" cy="621000"/>
          </a:xfrm>
          <a:custGeom>
            <a:avLst/>
            <a:gdLst/>
            <a:ahLst/>
            <a:rect l="l" t="t" r="r" b="b"/>
            <a:pathLst>
              <a:path w="9" h="391">
                <a:moveTo>
                  <a:pt x="9" y="39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68680" y="4645080"/>
            <a:ext cx="650880" cy="700200"/>
          </a:xfrm>
          <a:custGeom>
            <a:avLst/>
            <a:gdLst/>
            <a:ahLst/>
            <a:rect l="l" t="t" r="r" b="b"/>
            <a:pathLst>
              <a:path w="410" h="441">
                <a:moveTo>
                  <a:pt x="410" y="44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32520" y="4660920"/>
            <a:ext cx="839880" cy="379440"/>
          </a:xfrm>
          <a:custGeom>
            <a:avLst/>
            <a:gdLst/>
            <a:ahLst/>
            <a:rect l="l" t="t" r="r" b="b"/>
            <a:pathLst>
              <a:path w="529" h="239">
                <a:moveTo>
                  <a:pt x="529" y="23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questing Servic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est services by sending goals to facili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need to specify (or know of) a particular agent to carry out th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, not bu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e for requesting services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aa_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for requesting both data and initiating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Goal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 to Prolog (comma fo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lon fo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row for condi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questing Servic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 to Prolog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 disjuction” – have the disjuncts executed simultaneously by differ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y a goal resolution of breadth- or depth-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ompound subgoal can have an address and/or set of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specifies agent to handle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ing schemes – unique, symbolic, short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meters help refine the request’s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ly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ynchronus, asynchronus,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cal caching of facts related to sol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n refining requests w/ paramete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ategories for other types of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ce and meta-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ce – constraints or guidance to facili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lution_limit, time_limit, level_limit,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 – parallel satisfaction, self-i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-data – receive feedback from facilitator about handling a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nts that handled goal, time sp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ilita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DB of agents’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requesters and providers in making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dvantages of OAA facilit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t del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ing compound goals (as prev. describ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gation, optimization,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use strategies and advice given by requesting agents (also mentioned pre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cilita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rely on the facilitator fo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use specific agent’s address in a request (prev. mentio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recommened – facilitator encourages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e of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 Repositori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 library provides creation, maintenance, and use of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lvable corresponds to a relation in the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y a data solvable using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aa_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use parameters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gle_value, unique_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and non-persistent sol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 library lets agents update sol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, remove, or replace – either locally or on other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or can also provide and maintain sol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a blackboard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data repository when solvables are publicly readable and wr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– NL agent &amp; 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 agent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lvable(noun(Meaning, Syntax),[],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 can add data to facili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aa_AddData(noun(home,atom(pad)), [address(parent)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ous Monitoring w/ Trigger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s – take some action when a certain condition is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can declare triggers locally, remotely (permis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s are a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ndition,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– monitoring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– monitor the state of a solvable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– must pass a tes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oming even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– monitor time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ributed Compu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Obje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– resusability and modularity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apsulation – library interface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 – extend previous work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ymorphism – code can work w/ different data type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ed Object-Oriented Programming (DOOP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components may be spread across multiple machine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BA 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mo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ject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est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k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hitecture)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D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sic Infrastructur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AA ag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in several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, Prolog, Java, LISP, VB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families of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families – add, remove,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– for solvable declarations/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aa_Declare, oaa_Undeclar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aa_Redec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essential parts of protocol –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functionality, no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sic Infrastructur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t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tructure of invidividual agents, and cooperation between agents (res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vent Loop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s structured around event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ly poll agent’s event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any incoming events (1 of 3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uilt-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vent – automatically handled by the agent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sk-specif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vent – library calls the developer-defined callback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ybr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vent – explicity handling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uilt-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vents in certai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s are good, but can be a communication bottleneck or critical point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facilitator “connect” two communicating agents, and then step a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 various multi-facilitator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which is most scalable and fault-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ize facilitator’s key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ransaction management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4479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AA is a system for distribute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and 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register capabilities with 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send requests to 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or finds agent(s) capable of providing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can be used as a data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638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118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ributed Compu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Obje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 mechanism – Objects’ interfaces are registered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encoding of object interaction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PC-style communication necessary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ributed Compu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Obje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process migration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(pieces of) code to execute on remote machin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machine’s resourc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yssey by General Magic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ordia by Mitsubishi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yager by ObejctSpace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ributed Compu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Obje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bandwidth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r must specify where/when/how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ak exploitation of interaction between participant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write agents in language of executing environment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ributed Compu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board Architectur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read/write tuples from a global data stor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onitor blackboard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community of distributed process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pecification: good and bad??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ributed Compu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-based Software Engineer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among autonomous entiti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communication needs: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ynchronus transport mechanism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on protoco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language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tology (set of agreed upon vocabulary and its semantics)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QML 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ledg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ery &amp;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eractio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ocol) &amp; KIF 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ledg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erchang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mat)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pen Agent Architecture (OAA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 to combine the best of the distributed mode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and extensible feature of blackboard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cy of mobile object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, complex interactions of communicating agent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2:29:49Z</dcterms:created>
  <dc:creator>Ian Strascina</dc:creator>
  <dc:description/>
  <dc:language>en-US</dc:language>
  <cp:lastModifiedBy>Ian Strascina</cp:lastModifiedBy>
  <dcterms:modified xsi:type="dcterms:W3CDTF">2003-11-21T18:47:24Z</dcterms:modified>
  <cp:revision>472</cp:revision>
  <dc:subject/>
  <dc:title>Main</dc:title>
</cp:coreProperties>
</file>